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A19-1BCE-4C34-95B7-9CC7CDE0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33D-F21B-4533-AE50-54369E02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435-3A55-4159-B99E-ACA35EFB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5AC-4AA0-4847-9B6D-4F09F7CA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DEDB-0446-4A26-9535-6129EC8A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6D20-DE10-4E4D-92F1-D35B655E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EAD-A1D7-4591-8EED-B86A7D22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0457-FCA2-4B81-9554-52EB6BEE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261E-B3FE-48D5-8754-6669C45B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8D37-137B-48B3-AF91-F80AB455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1ABB-467E-433C-B8B9-31C0ACC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E52-5C29-4797-A467-2E1E5010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280E-1E0A-4AEC-BAF7-8AD64B4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7F31-01AE-4AD3-B627-E92515C0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F45B-3553-4CE6-85DC-C41A83E2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21FA-9EFC-45DF-B740-964B592F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DCF2-7910-4782-BF37-90533C6F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637-7F59-4668-918B-9C6453CD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C89-0FC1-4DB5-BB6B-7F134CE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0B3-4710-454A-ABE0-B4C800A6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69E-79C9-4243-B1B9-31C7B2CB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360-2C0C-45D6-A31B-35D1AEA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F57-E11E-404E-BF4C-0D3C1C98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D66-BF62-4390-BA8C-034209B3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5DC0-67E9-48AB-B9AB-709A02E2DE2A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9E7C-A654-41E9-B198-9D06E6735ECA}" type="slidenum">
              <a:rPr b="0" lang="en-A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00000" y="333360"/>
            <a:ext cx="75596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Sports Car</a:t>
            </a:r>
            <a:endParaRPr b="0" i="1" lang="en-US" sz="96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745080" cy="22003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826920" y="4251240"/>
            <a:ext cx="3457800" cy="2441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5003640" y="4095720"/>
            <a:ext cx="3456000" cy="2428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3168720" cy="20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Lamborghini Gallardo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Body ty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wo seat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Powertrai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ype: mid-engine and four wheel driv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Engine: V10 (5.0 liters)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6-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speed single clutc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ransmissio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op spee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302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kp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ire siz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Front: </a:t>
            </a:r>
            <a:r>
              <a:rPr b="0" i="1" lang="en-AU" sz="1600" spc="-1" strike="noStrike">
                <a:solidFill>
                  <a:srgbClr val="ffffff"/>
                </a:solidFill>
                <a:latin typeface="Times New Roman"/>
              </a:rPr>
              <a:t>235/35 ZR 19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Rear: </a:t>
            </a:r>
            <a:r>
              <a:rPr b="0" i="1" lang="en-AU" sz="1600" spc="-1" strike="noStrike">
                <a:solidFill>
                  <a:srgbClr val="ffffff"/>
                </a:solidFill>
                <a:latin typeface="Times New Roman"/>
              </a:rPr>
              <a:t>295/30 ZR 19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Dimensions( (inch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Length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69.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Width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74.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Height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45.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Wheelbase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00.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Cost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$165,000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o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$ 170,00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Manufacturer: Lamborghin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01680" y="2500200"/>
            <a:ext cx="41940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Lexus LF-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42920" y="1267920"/>
            <a:ext cx="419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Body typ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wo seat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Powertrai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ype: font-mid-engine , rear-mid-transax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Engine: V10 (under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5.0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 liter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ransmission: all-wheel-dr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op speed: more tha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kp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ire siz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Front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265/35R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Rear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05/30R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Dimensions (inche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Length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75.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Width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74.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Height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48.0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Wheelbase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02.6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Cost:$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70,0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Manufacturer: Lex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032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Audi R8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Body ty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wo seat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Powertrai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ype: mid- engine sports car Engine: V12 (6 litters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ransmission: 6 speed manual, 6 speed single clut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op spee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300km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ire siz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Dimensions (inch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Length: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74.4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Width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74.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Height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49.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Wheelbase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04.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Cost: $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80,000 - $ 110,00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Manufacturer: Aud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1680" y="2367000"/>
            <a:ext cx="38386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Koenigsegg CCX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Body typ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wo seat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Powertrai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ype: mid-eng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Engine:V8 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4.7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liters) and  rear wheel dr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ransmission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6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speed manu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op speed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420kp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ire siz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Front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9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inch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Rear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20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inch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Dimensions (inche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Length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6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Width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78.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Height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44.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Wheelbase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04.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Cost: $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600,9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Manufacturer: Koenigseg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194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6:07:34Z</dcterms:created>
  <dc:creator>Linao</dc:creator>
  <dc:description/>
  <dc:language>en-US</dc:language>
  <cp:lastModifiedBy>Lavinia Sullivan</cp:lastModifiedBy>
  <dcterms:modified xsi:type="dcterms:W3CDTF">2008-03-14T03:27:08Z</dcterms:modified>
  <cp:revision>8</cp:revision>
  <dc:subject/>
  <dc:title>Slide 1</dc:title>
</cp:coreProperties>
</file>